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699-0720-4BFD-832A-2FFCB850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EDA-5117-4102-841D-CE16B10E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13A-10F8-4487-A010-822E077F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245-0BFD-44D4-A278-C514AD6B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895-DDEE-4306-A51D-6C92EF83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390-65FD-4B55-9519-696023CE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069-CDA6-49A7-91D9-A3F9A743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EAC-437D-412E-8459-CA7492CD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83D-7377-4B1B-821A-B8F8452F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B76-E615-46A9-853C-932B5568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9ED-14F0-4ADC-9FB1-1C9B4D1C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616-3AE6-477C-8C85-5774756B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1E1D-D2C1-44E8-8090-78796090AE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708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9-28T09:04:25Z</dcterms:modified>
  <cp:revision>802</cp:revision>
  <dc:subject/>
  <dc:title>Free PPT Backgrounds</dc:title>
</cp:coreProperties>
</file>